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C65-B29F-4BF1-941D-FF38948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07B-1493-4A65-BB3A-F4E83AC1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4A4-20A8-4F01-8FAE-90954E4E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F06-177B-46FD-9E3C-4CD78B42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138-AC5C-4AC0-AEFE-4678D9B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14B-E7D8-4834-B240-2350EBB6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0CB-5ABC-47EA-A98D-D203472C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B51-F8FD-4C33-9430-7FDDF88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4E2-D97F-4126-98AA-E38FFA8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E51-3246-4A21-BE5E-9AC16FC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B26-8A6A-4FEA-BC54-0CEEDD88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4C3-E1F3-4A5D-8757-2D5EE40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39B-64EB-493C-9025-F90441D2E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0600" y="-71280"/>
            <a:ext cx="4762800" cy="700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3:36:42Z</dcterms:created>
  <dc:creator>Patrick J. Mooney</dc:creator>
  <dc:description/>
  <dc:language>en-US</dc:language>
  <cp:lastModifiedBy>Patrick J. Mooney</cp:lastModifiedBy>
  <dcterms:modified xsi:type="dcterms:W3CDTF">2011-05-24T13:38:20Z</dcterms:modified>
  <cp:revision>1</cp:revision>
  <dc:subject/>
  <dc:title>Slide 1</dc:title>
</cp:coreProperties>
</file>